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E949-256B-4D90-B914-BDFC79459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DBC1-CB74-4AB4-896A-1EB87C14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26FF-5D7E-4560-B2F9-3EA489858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14DD-0CC5-4954-958C-772271ACE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5AF5-2317-4328-BFF7-47977368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CA9D-444B-4BBC-B0E6-BF6040D3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AC3C-406C-4A73-BBB1-D973C5FD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4E89-D676-49F2-BBFA-232CE7D1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D99B-9C4F-4AFF-BD81-E7F0FEBE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DED4-3EC8-4D2E-9BAC-ED7EEA30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952F-9DF8-499F-8393-C8765B51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EC77-6918-4607-B16C-D1743765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9E50F5-A724-4306-87AC-1B90584990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0B9F99-F764-4532-BCDA-E0C0323AA2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31520"/>
            <a:ext cx="7772400" cy="24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Effects of a Complete Balanced Literacy Program on Literacy Achiev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919680"/>
            <a:ext cx="6400800" cy="21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Andrea Kras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Crystal Gome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EDU 7201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Applied Theory and Research 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r. O’Connor-Petrus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Fall 2010 - Midte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898989"/>
                </a:solidFill>
                <a:latin typeface="Calibri"/>
              </a:rPr>
              <a:t>Presentation 10/19/20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pencil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lanced Literac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earch Hypo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2160" y="2723760"/>
            <a:ext cx="7772400" cy="11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pencil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……………………………………......................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 Present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………………………….............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ide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terature Revie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……………………..…………....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ides 5 -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earch Hypothes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…………………………………....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ide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erenc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ides 12-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osing Comments &amp; Ques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…….………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ide 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pencil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owing focus on public education and declining literacy r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e are failing our students because of lack of preparation and interven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cline in teacher training and preparation results in loose definition of “balanced literac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blem 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lanced Literacy instruction loosely defined and design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achers not provided with plan of atta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ducators not train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arly elementary grades receive explicit phonics, then falls o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ruggling readers in grades 3-5 would benefit from implicit and explicit phonics i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terature Review: Phon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on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terature Review: Whole Language Classro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le Language Classroom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terature Review: Balanced Litera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20:33:10Z</dcterms:created>
  <dc:creator>Andrea Krasne</dc:creator>
  <dc:description/>
  <dc:language>en-US</dc:language>
  <cp:lastModifiedBy>Andrea Krasne</cp:lastModifiedBy>
  <dcterms:modified xsi:type="dcterms:W3CDTF">2010-10-14T22:07:46Z</dcterms:modified>
  <cp:revision>19</cp:revision>
  <dc:subject/>
  <dc:title>Systematic Phonics Instruction  vs.  Whole Language Classrooms</dc:title>
</cp:coreProperties>
</file>